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7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5.bin" ContentType="application/vnd.openxmlformats-officedocument.oleObject"/>
  <Override PartName="/ppt/embeddings/oleObject11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43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2.bin" ContentType="application/vnd.openxmlformats-officedocument.oleObject"/>
  <Override PartName="/ppt/embeddings/oleObject44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33.bin" ContentType="application/vnd.openxmlformats-officedocument.oleObject"/>
  <Override PartName="/ppt/embeddings/oleObject45.bin" ContentType="application/vnd.openxmlformats-officedocument.oleObject"/>
  <Override PartName="/ppt/embeddings/oleObject5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6.bin" ContentType="application/vnd.openxmlformats-officedocument.oleObject"/>
  <Override PartName="/ppt/embeddings/oleObject6.bin" ContentType="application/vnd.openxmlformats-officedocument.oleObject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47.png" ContentType="image/png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D06-9DCC-47C7-B624-D634B8AF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770-AB5E-4B3D-8CC9-8D1A5311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EB7F-8185-468F-9139-82D01233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96F-3659-457A-8D05-BDEBCEA8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99E-7A38-433F-B77C-634D0D8B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217-4C38-41C6-BE25-97EC5401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36C-11DF-49F7-A913-CAFFFB8A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67A-8E6C-434D-9A4E-91DE3B84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0FB-E3E4-4F59-8E3D-70760BB6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2BA-A786-474C-8894-79B32E45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277-2653-4D0F-8B2B-789CF6D2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1B3-022A-44E6-87AA-70E71632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EE7C-3610-4F6B-95AD-26618CB93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6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8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9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285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284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283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282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281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280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279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278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2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正方形/長方形 116"/>
          <p:cNvSpPr/>
          <p:nvPr/>
        </p:nvSpPr>
        <p:spPr>
          <a:xfrm>
            <a:off x="3435480" y="776160"/>
            <a:ext cx="484200" cy="58881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53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54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16"/>
          <p:cNvSpPr/>
          <p:nvPr/>
        </p:nvSpPr>
        <p:spPr>
          <a:xfrm>
            <a:off x="3430440" y="78408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0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83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84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95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96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106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107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116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117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125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126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133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134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140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141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230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236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242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246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255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正方形/長方形 116"/>
          <p:cNvSpPr/>
          <p:nvPr/>
        </p:nvSpPr>
        <p:spPr>
          <a:xfrm>
            <a:off x="2360520" y="1509840"/>
            <a:ext cx="484200" cy="5181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269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270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4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16"/>
          <p:cNvSpPr/>
          <p:nvPr/>
        </p:nvSpPr>
        <p:spPr>
          <a:xfrm>
            <a:off x="2359080" y="1495440"/>
            <a:ext cx="48240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28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28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29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30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31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31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32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32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33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33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34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34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34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35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35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35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0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0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0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1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1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1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42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42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42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43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43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43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43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43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44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44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44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44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45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45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45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45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46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46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46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46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0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471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正方形/長方形 116"/>
          <p:cNvSpPr/>
          <p:nvPr/>
        </p:nvSpPr>
        <p:spPr>
          <a:xfrm>
            <a:off x="1795320" y="2138400"/>
            <a:ext cx="484200" cy="45259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485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486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0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正方形/長方形 16"/>
          <p:cNvSpPr/>
          <p:nvPr/>
        </p:nvSpPr>
        <p:spPr>
          <a:xfrm>
            <a:off x="1806480" y="216360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502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503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6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515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516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527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528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1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7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538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539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2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548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549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2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557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558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0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565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566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8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572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573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5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3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4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6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8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0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2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4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6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0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2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38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0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0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2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54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656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658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660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662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668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670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672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674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676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678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680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682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4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685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6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687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9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700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701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5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1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72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73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74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74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75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75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76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76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77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77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77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78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78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78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2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2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3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3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3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4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4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4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4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4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5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5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85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85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85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86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86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86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86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86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87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87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87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87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87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88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88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88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88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89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89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89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89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15T06:28:52Z</dcterms:modified>
  <cp:revision>56</cp:revision>
  <dc:subject/>
  <dc:title>スライド 1</dc:title>
</cp:coreProperties>
</file>