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7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5.bin" ContentType="application/vnd.openxmlformats-officedocument.oleObject"/>
  <Override PartName="/ppt/embeddings/oleObject11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43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2.bin" ContentType="application/vnd.openxmlformats-officedocument.oleObject"/>
  <Override PartName="/ppt/embeddings/oleObject44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33.bin" ContentType="application/vnd.openxmlformats-officedocument.oleObject"/>
  <Override PartName="/ppt/embeddings/oleObject45.bin" ContentType="application/vnd.openxmlformats-officedocument.oleObject"/>
  <Override PartName="/ppt/embeddings/oleObject5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6.bin" ContentType="application/vnd.openxmlformats-officedocument.oleObject"/>
  <Override PartName="/ppt/embeddings/oleObject6.bin" ContentType="application/vnd.openxmlformats-officedocument.oleObject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7.png" ContentType="image/png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F63-5979-4AD7-A600-120CACC1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453-8541-4889-92D0-853A82DB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35A-2E20-4B4D-9138-196A7A0E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35E-68B4-4910-A73A-A8FCD1CF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CFE-C645-4B9D-8819-59C171C0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4EC-E1A5-4D1E-B525-42844B6E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266-B7E1-405C-AFBF-77997D14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0CD-F95B-4562-BCA9-B0431086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A1C-756E-4FEC-A8FA-45A199C5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859-FC5E-460F-B086-4107E1AD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F09-AC18-49D3-883A-E6EF3717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28B-395F-4048-B477-24BE0581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F9A7-D307-46ED-AF1E-D0D50AE89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6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8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9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285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84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283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282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281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280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279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278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2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正方形/長方形 116"/>
          <p:cNvSpPr/>
          <p:nvPr/>
        </p:nvSpPr>
        <p:spPr>
          <a:xfrm>
            <a:off x="3435480" y="776160"/>
            <a:ext cx="484200" cy="58881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53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54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16"/>
          <p:cNvSpPr/>
          <p:nvPr/>
        </p:nvSpPr>
        <p:spPr>
          <a:xfrm>
            <a:off x="3430440" y="78408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0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83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84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95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96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106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107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116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117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125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126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133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134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140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141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230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255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正方形/長方形 116"/>
          <p:cNvSpPr/>
          <p:nvPr/>
        </p:nvSpPr>
        <p:spPr>
          <a:xfrm>
            <a:off x="2360520" y="1509840"/>
            <a:ext cx="484200" cy="5181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269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270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16"/>
          <p:cNvSpPr/>
          <p:nvPr/>
        </p:nvSpPr>
        <p:spPr>
          <a:xfrm>
            <a:off x="2359080" y="1495440"/>
            <a:ext cx="48240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28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28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29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30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31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31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32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32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33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33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34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34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34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35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35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35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0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0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0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1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1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42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42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42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43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43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43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43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44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44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44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45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45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45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45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46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46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471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正方形/長方形 116"/>
          <p:cNvSpPr/>
          <p:nvPr/>
        </p:nvSpPr>
        <p:spPr>
          <a:xfrm>
            <a:off x="1795320" y="2138400"/>
            <a:ext cx="484200" cy="45259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485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486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0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正方形/長方形 16"/>
          <p:cNvSpPr/>
          <p:nvPr/>
        </p:nvSpPr>
        <p:spPr>
          <a:xfrm>
            <a:off x="1806480" y="216360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502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503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6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515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516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527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528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1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538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539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2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548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549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2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557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558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0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565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566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8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572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573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5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3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6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8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0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2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4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6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0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2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0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0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2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54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56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58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60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62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68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70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72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74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76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680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682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685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687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9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700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701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5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1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72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73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74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74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75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75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76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76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77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77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77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78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78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78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2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3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3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3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4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4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4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4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5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85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85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85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86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86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86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86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86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87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87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87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87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87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88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88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88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88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89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89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89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89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15T06:28:52Z</dcterms:modified>
  <cp:revision>56</cp:revision>
  <dc:subject/>
  <dc:title>スライド 1</dc:title>
</cp:coreProperties>
</file>